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8D67-274E-4B1A-AEF3-A67E3D197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A0A8-1682-4950-BE5B-27E9A858B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8622-9A92-4E59-AC23-A12B66542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3D1C-5591-4C99-BD72-ED69C1668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70E4-DCD2-4D2B-8248-F5BCED594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46D9-A456-4317-BE5F-3DEF0181D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83EA-EDC5-468A-B5F6-F92562C84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AACD-9880-447E-ADD3-981712D0A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44FA-4A35-4646-8FFA-4198BE406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7BDA-BDAC-4FA1-86BA-2C98A013C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7304-7C3E-4729-8F66-1645BEF8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1C5A-8141-4C8B-B571-3FFCB5923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3518A-78F1-4FDC-BA9A-AEBCCE771F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ameronartmuseum.com/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277920"/>
            <a:ext cx="8381880" cy="12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grated Art Lessons:</a:t>
            </a:r>
            <a:br>
              <a:rPr sz="36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lassroom Resource for Teachers</a:t>
            </a: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152388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esented by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Arial"/>
              </a:rPr>
              <a:t>Cameron Art Museu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cc3300"/>
                </a:solidFill>
                <a:latin typeface="Arial"/>
              </a:rPr>
              <a:t>3201 South 17</a:t>
            </a:r>
            <a:r>
              <a:rPr b="0" lang="en-US" sz="1700" spc="-1" strike="noStrike" baseline="30000">
                <a:solidFill>
                  <a:srgbClr val="cc3300"/>
                </a:solidFill>
                <a:latin typeface="Arial"/>
              </a:rPr>
              <a:t>th</a:t>
            </a:r>
            <a:r>
              <a:rPr b="0" lang="en-US" sz="1700" spc="-1" strike="noStrike">
                <a:solidFill>
                  <a:srgbClr val="cc3300"/>
                </a:solidFill>
                <a:latin typeface="Arial"/>
              </a:rPr>
              <a:t> Stree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cc3300"/>
                </a:solidFill>
                <a:latin typeface="Arial"/>
              </a:rPr>
              <a:t>Wilmington, North Carolina 2841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cameronartmuseum.co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61040" y="3505320"/>
            <a:ext cx="7025040" cy="28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cooperation wit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+ Schools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University of North Carolina at Greensbo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. O. Box 261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eensboro, North Carolina 27402-61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plus-schools.uncg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ded by a grant from the Corning Found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hor:  Martha Burdet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3505320" cy="28576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715000" y="457200"/>
            <a:ext cx="1951200" cy="28195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8600" y="3505320"/>
            <a:ext cx="8335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do you think neither artist chose to show any people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imals these painting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kind of story could you write to explain why there 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people in sigh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you think you would like to visit either of these loc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or why no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about the art and the art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90720" y="3657600"/>
            <a:ext cx="2971800" cy="17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tle:  “October Sunlight on Second Stree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ist/Dates: Claude Howell, American, 1915-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dium: oil on canv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ze: 41” x 50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e: 19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9680" y="3236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81480" y="3657600"/>
            <a:ext cx="350532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tle: Untitled (Porch Sce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ist/Dates: Eric Lawing, Americ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dium: oil on canv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ze: 42” x29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e: 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6360" y="5715000"/>
            <a:ext cx="839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else would you like to know about the art or the artis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you find ou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2971800" cy="24224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410080" y="838080"/>
            <a:ext cx="173844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09680" y="228600"/>
            <a:ext cx="4191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 Twen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426672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ed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hematics: geome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 Art: texture, shape, line,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guage Arts: setting, descriptive language, oral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38080" y="1004760"/>
            <a:ext cx="3886200" cy="3167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715000" y="990720"/>
            <a:ext cx="2198520" cy="317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057400" y="457200"/>
            <a:ext cx="5105520" cy="4160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1320" y="4687920"/>
            <a:ext cx="853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agine that you are actually standing on this street looking 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houses.  What do you noti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you imagine you might hear or smell in th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057400" y="457200"/>
            <a:ext cx="5105520" cy="4160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80880" y="4952880"/>
            <a:ext cx="857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houses can you find in this pic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id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 you point out that might tell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is neighborhoo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057400" y="457200"/>
            <a:ext cx="5105520" cy="41608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440" y="4800600"/>
            <a:ext cx="885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 dimensional shap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 you identify in the paint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ree dimensional shap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 you point ou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057400" y="457200"/>
            <a:ext cx="4876920" cy="3975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94720" y="4535640"/>
            <a:ext cx="7890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you tell wher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gh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coming from by looking 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dow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p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 you see that a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ea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create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ter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is pic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165560" cy="60195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573440" y="304920"/>
            <a:ext cx="44294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 is another painting 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s several ho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agine that you 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ing in th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ighborhoo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you looking down or up 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ouses?  How can you te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lues can you find th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 us know the location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you hear and smell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things in th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ighborhood as in the fi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?  Explain your ans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4160880" cy="6019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724280" y="380880"/>
            <a:ext cx="4214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p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 yo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ce in this paint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would you s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out the lines in t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si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o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 you se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notice ab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lo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ai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 you se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id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tell wh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erials these houses 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de from? Expl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8600" y="485640"/>
            <a:ext cx="5105520" cy="41608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767560" y="533520"/>
            <a:ext cx="2847960" cy="41148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04200" y="5257800"/>
            <a:ext cx="843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notice when you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a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intings?  Look carefully a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or, texture, shape, and l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tha Burdette</cp:lastModifiedBy>
  <dcterms:modified xsi:type="dcterms:W3CDTF">2007-07-26T22:39:26Z</dcterms:modified>
  <cp:revision>7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